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916FF-8320-49DA-AE68-2AAD41A82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8402-BDFB-4706-8F84-F74CA254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C0D5E-5908-4A9A-BC67-2AEB197D5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3F208-52E2-48ED-B35C-2A56CC8BA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F85A8-D126-42B8-A2CD-1FB52608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766C5-DE9B-4CBE-94D3-75A4B1E3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158F0-10BB-401D-9881-73E68A580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994B-393A-49D6-B915-0ECADE9A1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098C7-18FB-450D-8417-77A5114D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C024-0752-4999-BE54-C13C6DEC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0900-225D-44A9-9159-B2C26E52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9E00-BE1E-47D6-BEC3-98D0F1D88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339E-4811-4894-B07C-F761F84DF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ownandcountrytravelmag.com/cm/tandctravel/images/xD/trans-siberian-de.jpg&amp;imgrefurl=http://www.townandcountrytravelmag.com/vacation-ideas/best-vacations/back-on-track&amp;usg=__VVUEbmqvt_z6OkTQrK_M9cwHLSk=&amp;h=240&amp;w=312&amp;sz=26&amp;hl=en&amp;start=92&amp;um=1&amp;tbnid=ckRCzp3PnQYxQM:&amp;tbnh=90&amp;tbnw=117&amp;prev=/images%3Fq%3Dtrans%2Bsiberian%2Brailroad%26start%3D80%26ndsp%3D20%26um%3D1%26hl%3Den%26safe%3Dactive%26sa%3DN"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sbras.nsc.ru/consult/pic/baikal4.jpg&amp;imgrefurl=http://www.sbras.nsc.ru/consult/baikal.htm&amp;usg=__eCg09xJ8lTpKHIRp0AeHG8XuZMU=&amp;h=299&amp;w=300&amp;sz=48&amp;hl=en&amp;start=4&amp;tbnid=N46gV0IHHofKWM:&amp;tbnh=116&amp;tbnw=116&amp;prev=/images%3Fq%3Dlake%2Bbaikal%26gbv%3D2%26hl%3Den%26safe%3Dactive"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images.fanpop.com/images/image_uploads/Laughing-Buddha-Statue-buddhism-771645_333_333.jpg&amp;imgrefurl=http://www.fanpop.com/spots/buddhism/images/771645&amp;usg=__WoUNJcgaZRDSPnkNa5-SeztAlMw=&amp;h=333&amp;w=333&amp;sz=30&amp;hl=en&amp;start=6&amp;tbnid=VmX7LaE4SaNE0M:&amp;tbnh=119&amp;tbnw=119&amp;prev=/images%3Fq%3Dbuddha%2Bstatue%26gbv%3D2%26hl%3Den%26safe%3Dactive%26sa%3DX"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ns Siberian Railroad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mes Robert and Conner</a:t>
            </a:r>
            <a:endParaRPr b="0" lang="en-US" sz="3200" spc="-1" strike="noStrike">
              <a:solidFill>
                <a:srgbClr val="000000"/>
              </a:solidFill>
              <a:latin typeface="Times New Roman"/>
            </a:endParaRPr>
          </a:p>
        </p:txBody>
      </p:sp>
    </p:spTree>
  </p:cSld>
  <p:transition spd="slow" advTm="3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33cc"/>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99ff66"/>
            </a:gs>
            <a:gs pos="100000">
              <a:srgbClr val="ff33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eaving Moscow</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 left Moscow we decided to take the whole trip all the way to Vladivostok </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2666880" y="3581280"/>
            <a:ext cx="3429000" cy="2424240"/>
          </a:xfrm>
          <a:prstGeom prst="rect">
            <a:avLst/>
          </a:prstGeom>
          <a:ln w="0">
            <a:noFill/>
          </a:ln>
        </p:spPr>
      </p:pic>
    </p:spTree>
  </p:cSld>
  <p:transition spd="slow"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ur first day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we got to our seats there was just a glimpse of the Kremlin. We were preparing for the seven day journey from Moscow to Vladivostok. We were lucky to have been accompanied by a translator who told us that  we should get extra blankets for the cold night ahead.</a:t>
            </a:r>
            <a:endParaRPr b="0" lang="en-US" sz="3200" spc="-1" strike="noStrike">
              <a:solidFill>
                <a:srgbClr val="000000"/>
              </a:solidFill>
              <a:latin typeface="Times New Roman"/>
            </a:endParaRPr>
          </a:p>
        </p:txBody>
      </p:sp>
      <p:pic>
        <p:nvPicPr>
          <p:cNvPr id="48" name="" descr="">
            <a:hlinkClick r:id="rId1"/>
          </p:cNvPr>
          <p:cNvPicPr/>
          <p:nvPr/>
        </p:nvPicPr>
        <p:blipFill>
          <a:blip r:embed="rId2"/>
          <a:stretch/>
        </p:blipFill>
        <p:spPr>
          <a:xfrm>
            <a:off x="5334120" y="4876920"/>
            <a:ext cx="2286000" cy="1758960"/>
          </a:xfrm>
          <a:prstGeom prst="rect">
            <a:avLst/>
          </a:prstGeom>
          <a:ln w="0">
            <a:noFill/>
          </a:ln>
        </p:spPr>
      </p:pic>
    </p:spTree>
  </p:cSld>
  <p:transition spd="slow" advTm="11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econd da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night we went through Yaroslavl, and were heading in to Ekaterinburg when we awoke. We realized that we had been over the Ural Mountains. Our translator explained to us that this was the town czar Nicholas II was executed in. So we decided to go see the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Blood Cathedral. That day we learned a lot about Russia’s history.</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6934320" y="228600"/>
            <a:ext cx="1847880" cy="2817720"/>
          </a:xfrm>
          <a:prstGeom prst="rect">
            <a:avLst/>
          </a:prstGeom>
          <a:ln w="0">
            <a:noFill/>
          </a:ln>
        </p:spPr>
      </p:pic>
    </p:spTree>
  </p:cSld>
  <p:transition spd="slow" advTm="17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d Day </a:t>
            </a:r>
            <a:r>
              <a:rPr b="0" lang="en-U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asnoyarsk was are next stop. The cold breeze off the Yenisei River was kept in the city by the thick taiga. So we didn’t go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2"/>
          <a:stretch/>
        </p:blipFill>
        <p:spPr>
          <a:xfrm>
            <a:off x="2438280" y="3657600"/>
            <a:ext cx="3581640" cy="2462040"/>
          </a:xfrm>
          <a:prstGeom prst="rect">
            <a:avLst/>
          </a:prstGeom>
          <a:ln w="0">
            <a:noFill/>
          </a:ln>
        </p:spPr>
      </p:pic>
    </p:spTree>
  </p:cSld>
  <p:transition spd="slow" advTm="11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rth da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reached Irkutsk by lake Baikal. We decided to go explore the shore line. We noticed the lakes deep green color.</a:t>
            </a:r>
            <a:endParaRPr b="0" lang="en-US" sz="3200" spc="-1" strike="noStrike">
              <a:solidFill>
                <a:srgbClr val="000000"/>
              </a:solidFill>
              <a:latin typeface="Times New Roman"/>
            </a:endParaRPr>
          </a:p>
        </p:txBody>
      </p:sp>
      <p:pic>
        <p:nvPicPr>
          <p:cNvPr id="57" name="" descr="">
            <a:hlinkClick r:id="rId2"/>
          </p:cNvPr>
          <p:cNvPicPr/>
          <p:nvPr/>
        </p:nvPicPr>
        <p:blipFill>
          <a:blip r:embed="rId3"/>
          <a:stretch/>
        </p:blipFill>
        <p:spPr>
          <a:xfrm>
            <a:off x="2590920" y="3505320"/>
            <a:ext cx="3276360" cy="3276360"/>
          </a:xfrm>
          <a:prstGeom prst="rect">
            <a:avLst/>
          </a:prstGeom>
          <a:ln w="0">
            <a:noFill/>
          </a:ln>
        </p:spPr>
      </p:pic>
    </p:spTree>
  </p:cSld>
  <p:transition spd="slow" advTm="9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23b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Da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got to Ulan Ude. We saw a Buddhist monastery. This was an odd stop because no one got off. Our translator told us that most people don’t get off here. He also told us that the Buddhism suffered a sharp decline under Stalin.</a:t>
            </a:r>
            <a:endParaRPr b="0" lang="en-US" sz="3200" spc="-1" strike="noStrike">
              <a:solidFill>
                <a:srgbClr val="000000"/>
              </a:solidFill>
              <a:latin typeface="Times New Roman"/>
            </a:endParaRPr>
          </a:p>
        </p:txBody>
      </p:sp>
      <p:pic>
        <p:nvPicPr>
          <p:cNvPr id="60" name="" descr="">
            <a:hlinkClick r:id="rId1"/>
          </p:cNvPr>
          <p:cNvPicPr/>
          <p:nvPr/>
        </p:nvPicPr>
        <p:blipFill>
          <a:blip r:embed="rId2"/>
          <a:stretch/>
        </p:blipFill>
        <p:spPr>
          <a:xfrm>
            <a:off x="6172200" y="4419720"/>
            <a:ext cx="2200320" cy="2200320"/>
          </a:xfrm>
          <a:prstGeom prst="rect">
            <a:avLst/>
          </a:prstGeom>
          <a:ln w="0">
            <a:noFill/>
          </a:ln>
        </p:spPr>
      </p:pic>
    </p:spTree>
  </p:cSld>
  <p:transition spd="slow" advTm="17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xth Da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rning when we got over the hills over looking the Amur river, and we saw this town we knew it was our next stop. It was the town of Khabarovsk. We decided to stay on the beach for a while before going to the museum. At the museum we learned </a:t>
            </a:r>
            <a:r>
              <a:rPr b="0" lang="en-US" sz="3200" spc="-1" strike="noStrike">
                <a:solidFill>
                  <a:srgbClr val="000000"/>
                </a:solidFill>
                <a:latin typeface="Times New Roman"/>
              </a:rPr>
              <a:t>	</a:t>
            </a:r>
            <a:r>
              <a:rPr b="0" lang="en-US" sz="3200" spc="-1" strike="noStrike">
                <a:solidFill>
                  <a:srgbClr val="000000"/>
                </a:solidFill>
                <a:latin typeface="Times New Roman"/>
              </a:rPr>
              <a:t>that this city was a militar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utpost.</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19080" y="4876920"/>
            <a:ext cx="1485720" cy="1981080"/>
          </a:xfrm>
          <a:prstGeom prst="rect">
            <a:avLst/>
          </a:prstGeom>
          <a:ln w="0">
            <a:noFill/>
          </a:ln>
        </p:spPr>
      </p:pic>
    </p:spTree>
  </p:cSld>
  <p:transition spd="slow" advTm="16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cbcbcb"/>
            </a:gs>
            <a:gs pos="100000">
              <a:srgbClr val="eaeae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Times New Roman"/>
              </a:rPr>
              <a:t> </a:t>
            </a:r>
            <a:r>
              <a:rPr b="0" lang="en-US" sz="4400" spc="-1" strike="noStrike">
                <a:solidFill>
                  <a:srgbClr val="000000"/>
                </a:solidFill>
                <a:latin typeface="Times New Roman"/>
              </a:rPr>
              <a:t>THE SEVENTH DAY </a:t>
            </a:r>
            <a:r>
              <a:rPr b="0" lang="en-U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we reached Vladivostok. When we got off we went to the harbor. There were so many boats we decided to go out on the Sea of Japan. There were so many attractions we couldn’t decide where to go.</a:t>
            </a:r>
            <a:endParaRPr b="0" lang="en-US" sz="3200" spc="-1" strike="noStrike">
              <a:solidFill>
                <a:srgbClr val="000000"/>
              </a:solidFill>
              <a:latin typeface="Times New Roman"/>
            </a:endParaRPr>
          </a:p>
        </p:txBody>
      </p:sp>
    </p:spTree>
  </p:cSld>
  <p:transition spd="slow" advTm="1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hett Murray</cp:lastModifiedBy>
  <dcterms:modified xsi:type="dcterms:W3CDTF">2008-12-01T23:25:46Z</dcterms:modified>
  <cp:revision>7</cp:revision>
  <dc:subject/>
  <dc:title>Map Jeopardy</dc:title>
</cp:coreProperties>
</file>